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506-F975-462A-960A-FD4BA815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D82-4279-427E-9CB5-0166CC97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B20-ABB9-448F-8672-AD2E3410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90A-8A75-406C-ADD1-BC1E8007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8B8-7320-47BB-9D43-58D3E5AC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B09-168F-4987-9C64-776817A1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324-E043-482F-9F61-4CE6DAB5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746-CC6A-4DAD-91D9-471D5D5B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531-2CCD-47AB-A5C8-E3D320BC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957-E603-4629-8AFB-FADB5E9A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11A-E6E7-4AD8-909A-2E130233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C57-74A8-448C-854B-CCA1486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5F64-EBFC-4736-892D-33AAE3CDFC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07560"/>
            <a:ext cx="640080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360" y="209520"/>
            <a:ext cx="81532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5640" y="361800"/>
            <a:ext cx="817272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960" y="352440"/>
            <a:ext cx="818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5640" y="366840"/>
            <a:ext cx="817272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960" y="352440"/>
            <a:ext cx="818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5360" y="361800"/>
            <a:ext cx="81532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0680" y="352440"/>
            <a:ext cx="8162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0680" y="352440"/>
            <a:ext cx="8162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360" y="361800"/>
            <a:ext cx="81532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0680" y="343080"/>
            <a:ext cx="8162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6:34:03Z</dcterms:created>
  <dc:creator>微软用户</dc:creator>
  <dc:description/>
  <dc:language>en-US</dc:language>
  <cp:lastModifiedBy>微软用户</cp:lastModifiedBy>
  <dcterms:modified xsi:type="dcterms:W3CDTF">2014-10-10T06:34:35Z</dcterms:modified>
  <cp:revision>1</cp:revision>
  <dc:subject/>
  <dc:title>幻灯片 1</dc:title>
</cp:coreProperties>
</file>